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0360-F98D-4B86-A19B-ECE9DE40CF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3C5B-0055-4593-8446-ECAF7C7656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2E4E-8D89-4751-9CB8-8E81D2618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742D-A054-4001-9E0E-04CD79778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BECA-D945-4B63-9BF9-B3BB62B43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7A44-A448-4B7F-BCD9-CBBC62F10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4BE0-C30C-4019-8F9D-85A1E5222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63F4-8461-469B-B5E2-C346596AA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8788-B030-400D-B789-6AC1D44367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0E44-93A7-402A-B8CE-6A1B05698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51C2-E2A1-417C-BC7D-AC8C190DA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6C66-BEF0-4109-A257-63C1376B9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5D96-67C2-4692-8D7C-FAE667355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E657-9E0D-48EC-9678-13E071321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FE99-7141-451D-8719-E16A1B41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6F76-EAE4-40E1-A4F5-0CA9EF1A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D934AE-7FEF-4B8E-8560-2C6D069A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3DD35E-94B8-42A5-8ACE-276FF11A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BB6ACD-21CD-44C9-8BDD-B36CC777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72B3DD-604E-406E-BEAE-43B0BFA7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E02B7D-199D-4CCB-AA98-E897FB17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2C136B-74E3-4FC6-BD33-94890B0E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1E5621-6DC1-4409-924E-078A08AC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B376B7-B91D-4743-B3A8-1E89C08D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28B8A9-9020-4266-BD41-6051B70A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CB36C-83D3-47F4-98E5-3D9141F8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6F88-163F-4601-B64C-9587826E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98267-BCF7-409D-B14E-40D68F17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C68E3-ED1F-4D61-A943-577FBAE4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6CDAF-7A30-44D6-A841-584A11A7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339C0-C6E7-4393-98D5-A7D12A23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3C9CC-1FD6-4962-BEDF-275FA21F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E2CE1-8333-4440-A2E7-A3B0FC08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E20C4-7A49-46CD-9485-4B76ABDB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30AE2-191B-4F96-9761-2C9155E6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D642B-ED33-4D48-A0DA-6030A29E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0711F-4E21-40EA-8C5A-440311EC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643E-217F-4BE1-B70C-2B2E9052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45CFE-BC6A-41C8-A7A6-53F23F08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D5A00-AD0E-41C0-B1DB-4854FEE9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73BBC-AF11-43EA-9CB3-EB66B97F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87CA4-2FA5-4555-8332-42E8E9D2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82EE0-699F-4D9B-9F50-9C7A71F1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E4E5D-91D2-4208-A450-8CAE576D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6E01D-A6AF-493C-9505-365D7C25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C752D-8367-461D-ABB5-676405A1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B8654-D519-441A-9E1F-5ADAADC3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8E605-6345-4668-9DD4-BEB21EF7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90AA-8D17-4EE7-B7A7-161CC409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6C06D-0E9C-4910-8DB6-90C93852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B2654-1462-4381-B9C7-433F85D8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1AAA0-E006-4E64-89C0-E0E6E9DD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4E84-3338-4D57-ACAA-3CDE0D93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4F95-1C00-4A27-BC93-91F857A2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2BE3-E3CC-46D6-A512-196E12F1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CA27-A6DE-4EE0-AF2E-95AE8879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6207-8268-4607-98E5-F72B3DE8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8FAA-89FD-4F7F-9015-49A45222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C4D3-DE3A-4637-92C8-06619096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A1E8-A8C9-4638-AF3B-08732C70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5630-9E2F-4890-96CF-37CC8CF6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FD80-4FE4-401F-942A-D65BCEA3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8B53-137B-4567-824D-B6BDB21F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43C3-34C0-4A1A-91ED-40468924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0B8EB-26D2-4F41-8D6A-3B9429B4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29593-9460-4B1C-BDC2-280A1742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626C8-CBD7-4B08-968F-84FC554F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F4DE8-7E9C-452F-B74E-000CE503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AE0FF-1C6B-463D-BFFD-180FCCEC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7447-4942-4D60-9465-D7543BAC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7583E-4B4C-4140-A120-5A6EF915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D4D9B-D243-41EE-BBC2-07468967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FD930-3E42-4F2A-A6F6-FE1E23B4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77190-3A7E-4944-A237-A0C667D4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BEE0A-F071-473D-BA6B-C3D0C3F8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46739-BEEE-43F0-B3AC-D97C9B18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8D806-0B32-4F9F-AD77-B7A6204FA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E69A48-328D-4083-951F-15A63353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302CEB-0E88-4592-91A7-F7B213BD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BBA901-0686-4FBC-8A3C-24956300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8D3E-B01A-4116-B662-9F129221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68D407-5995-4B60-A065-CD0903A4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E474BA-2D10-4E06-965C-8473289A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2C414D-DE65-4690-8D8B-699F0618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39B509-E848-4838-A46C-50DE4C1A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B91578-2016-43E2-9F15-70E1FD03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3DFFC8-992F-4C11-83AC-34135F36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2016CF-9BA2-4773-899E-F75F74C6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9F46E1-C1E1-4B55-87DA-F9DE55AA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08CBC8-2D58-4425-BA16-AE54F6D1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48494E-7C94-4EA4-A027-A85D443E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3896-A0E1-4232-A810-FA8F4B29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58EEAD-86BB-41AF-9DF4-C9C0CBB8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AE3B2F-556A-4EA2-9E9A-6ACDC8FB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B559DA-E128-4843-8E05-8CC76F12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579D0D-7B0F-45B6-B4F9-33BCC8CE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94D0D6-B800-4633-AEFC-190CC436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A8BDCB-6189-49BD-84B2-5752828F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4CE413-D62D-4C07-BF96-27AA14A4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140D46-E7F5-4911-BB33-38214C05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FC1DD5-1D9F-456A-92AC-2A325B45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ECAA00-5E7A-4D99-9017-025482EE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C183-6929-401B-954D-7F4B0BDB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FA1077-867F-45B0-8416-A2EFB3AC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BF28C-8975-4DA5-9478-46C02F38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ECF51-8F22-49CE-A159-686237E0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AD8E4-E891-4E64-9A4E-72862F2C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9D597-4C16-49C8-9073-9E9D19A8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C0D4F-DC07-47BF-B15D-5C4E3DB7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F1748-42C6-447C-BC17-4ED04674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95589-ECC8-4D71-B4BC-2FDCFBFF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3F130-1D73-4210-88FE-343841D1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C96F1-F37D-4696-95CE-4FA7461F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9F0-6FD5-4269-9313-6EF57546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395DC-AC87-4B22-B7A3-A60F4A4F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6475A-2896-4173-A648-FB0F43B3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EA86D-00F6-4EAD-A07F-29166E9D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F9668-7884-4ACA-8EBF-6DD68D0A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99620-F5FF-4178-9433-FBB73B51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BB95B-1301-4863-ACB8-762A76FC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5024E-4A53-4874-A138-AB30ED55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26512-55D9-4E1F-A03A-0FE24D35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ED811-EFBD-4251-81AC-62DF3067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6F263-5C05-4F25-AA47-851F342B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35E0-B4F6-4499-BDC0-B6BB21BB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DDCBD-267B-4410-9FE6-7F75669C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CF4FA-53CB-4089-9DB0-56C9A9BC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58804-98F5-4FEB-9716-C8D05872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EB2B8-4909-4F6E-A421-9C7EE5E6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82F08-75F1-4E03-88B7-1087E40A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F2B71-418B-458D-8FFE-B3FA61107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658D3-F7F1-438A-A752-9D345B61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5F069-BC10-4F9A-A2AC-2043184D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DEE1B-1B84-444A-8859-D3A456B9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53AE2-CF72-4CDD-8A98-3D5AFC1C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EAC1-280A-497B-AF0B-28EFBCF8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66356-FC90-4FC7-8C1F-627C214F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50095-C737-4C94-B793-23932E72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E55E7-DCC7-4FEA-B694-3CCE9D76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B69B5-BBA8-4B8B-A876-5CA441DB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52286-D472-436B-B0D4-C73FD6F1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D4AF7-DC94-4360-B3C6-B9F01078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D32CE-391E-460B-B5EF-A674DB77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7034A9-1C23-41FC-B0A0-1E0968EC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02CD4F-8AA6-4734-A448-572E48AC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1B8C04-10EA-4BFB-904B-087EF11F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3E66-411C-4416-AECD-6B156696BE64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C065DFC7-CBFD-4049-97C3-56C47FF47279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00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4311-7B47-4317-81F4-D77E58E4F4CF}" type="slidenum">
              <a:rPr b="1" lang="en-US" sz="12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D6AC-1D95-4B3D-96BB-4CC052BCBA5B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E1906216-C2C9-4D9C-AAC1-9FB8553F7033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00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BCCF-E667-4A97-BFF5-D4E6B3250636}" type="slidenum">
              <a:rPr b="1" lang="en-US" sz="12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5EE5-9DC3-4877-884E-128ADD85D0F2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FC5B7BB1-792F-4BE4-A03A-1F63E7153ED8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00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73D7-9245-46BC-B911-F7703CFAF0A4}" type="slidenum">
              <a:rPr b="1" lang="en-US" sz="12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4888-7767-4D2F-8542-C71223038EDE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29/26</a:t>
            </a:fld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 </a:t>
            </a:r>
            <a:fld id="{880E4D2E-E682-4F5E-B748-C5883CB6EDC6}" type="datetime10">
              <a:rPr b="0" lang="en-US" sz="2000" spc="-1" strike="noStrike">
                <a:solidFill>
                  <a:srgbClr val="ffffff"/>
                </a:solidFill>
                <a:latin typeface="Tw Cen MT"/>
              </a:rPr>
              <a:t>00:13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1BE3-C20D-4571-B9B1-464228BD44A1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CD05-9E35-4508-B530-4393565AF2E6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4D1C0997-2EF3-4C4D-ABCC-D00585B9976F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00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D59A-4522-4351-B4FE-5AC0CF398A9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041B-9B15-496B-B809-B538B0D427D9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08F39E42-A226-4D4A-A402-16180C7951A3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00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5CD2-D6FF-44F4-A690-51663C93593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F8AE-2C7A-45C6-8B14-C63FEABF7F4B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5FBE66A2-AB74-43C0-AA97-626341AE4C49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00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D87E-89E2-404B-B4CD-46FB0F63EA6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A7F6-2D15-4876-872F-3E55D06E4ED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F7FF3835-FEC6-48D7-87F6-AD2C70C83F65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00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997C-2104-4C63-A0F3-DF0E6BC7974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B8C7-B6C2-4EC5-86F5-A587D6D7E9FF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1F92449E-C5C8-46A9-BAA7-40AB1B18AA35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00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4B15-1679-4497-A175-217BCDF91436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3770-EBC8-42EF-93E1-E3A77979783F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B6406F19-793B-4600-975F-A4D1C2941164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00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1CB5-5195-4C38-87E5-6930EE0A6A1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9334-16ED-4466-89D9-0C62549F170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9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C99F81DB-2AD1-4FEF-B4FB-7CC148FA700A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00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2D02-38B0-46AB-9D39-CC55665DB5AA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Rectangle 1"/>
          <p:cNvGrpSpPr/>
          <p:nvPr/>
        </p:nvGrpSpPr>
        <p:grpSpPr>
          <a:xfrm>
            <a:off x="298440" y="-42840"/>
            <a:ext cx="8852040" cy="4206960"/>
            <a:chOff x="298440" y="-42840"/>
            <a:chExt cx="8852040" cy="4206960"/>
          </a:xfrm>
        </p:grpSpPr>
        <p:pic>
          <p:nvPicPr>
            <p:cNvPr id="490" name="Rectangle 1" descr=""/>
            <p:cNvPicPr/>
            <p:nvPr/>
          </p:nvPicPr>
          <p:blipFill>
            <a:blip r:embed="rId1"/>
            <a:stretch/>
          </p:blipFill>
          <p:spPr>
            <a:xfrm>
              <a:off x="298440" y="-42840"/>
              <a:ext cx="8852040" cy="420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919080" y="551520"/>
              <a:ext cx="761040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ebddc3"/>
                  </a:solidFill>
                  <a:latin typeface="Calibri"/>
                </a:rPr>
                <a:t>МИНИСТЕРСТВО СЕЛЬСКОГО ХОЗЯЙСТВА</a:t>
              </a:r>
              <a:br>
                <a:rPr sz="1400"/>
              </a:br>
              <a:r>
                <a:rPr b="1" lang="ru-RU" sz="1400" spc="-1" strike="noStrike">
                  <a:solidFill>
                    <a:srgbClr val="ebddc3"/>
                  </a:solidFill>
                  <a:latin typeface="Calibri"/>
                </a:rPr>
                <a:t>РОССИЙСКОЙ ФЕДЕРАЦИИ</a:t>
              </a:r>
              <a:br>
                <a:rPr sz="1400"/>
              </a:br>
              <a:r>
                <a:rPr b="1" lang="ru-RU" sz="1400" spc="-1" strike="noStrike">
                  <a:solidFill>
                    <a:srgbClr val="ebddc3"/>
                  </a:solidFill>
                  <a:latin typeface="Calibri"/>
                </a:rPr>
                <a:t>ФЕДЕРАЛЬНОЕ ГОСУДАРСТВЕННОЕ БЮДЖЕТНОЕ </a:t>
              </a:r>
              <a:br>
                <a:rPr sz="1400"/>
              </a:br>
              <a:r>
                <a:rPr b="1" lang="ru-RU" sz="1400" spc="-1" strike="noStrike">
                  <a:solidFill>
                    <a:srgbClr val="ebddc3"/>
                  </a:solidFill>
                  <a:latin typeface="Calibri"/>
                </a:rPr>
                <a:t>ОБРАЗОВАТЕЛЬНОЕ УЧРЕЖДЕНИЕ ВЫСШЕГО ОБРАЗОВАНИЯ</a:t>
              </a:r>
              <a:br>
                <a:rPr sz="1400"/>
              </a:br>
              <a:r>
                <a:rPr b="1" lang="ru-RU" sz="1400" spc="-1" strike="noStrike">
                  <a:solidFill>
                    <a:srgbClr val="ebddc3"/>
                  </a:solidFill>
                  <a:latin typeface="Calibri"/>
                </a:rPr>
                <a:t>«ДОНБАССКАЯ АГРАРНАЯ АКАДЕМИЯ»</a:t>
              </a:r>
              <a:br>
                <a:rPr sz="1400"/>
              </a:br>
              <a:r>
                <a:rPr b="1" lang="ru-RU" sz="1400" spc="-1" strike="noStrike">
                  <a:solidFill>
                    <a:srgbClr val="ebddc3"/>
                  </a:solidFill>
                  <a:latin typeface="Calibri"/>
                </a:rPr>
                <a:t> </a:t>
              </a:r>
              <a:br>
                <a:rPr sz="1400"/>
              </a:br>
              <a:br>
                <a:rPr sz="3600"/>
              </a:br>
              <a:br>
                <a:rPr sz="36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2" name="Picture 8" descr="C:\Documents and Settings\Mist.DEB-6015B618F20\My Documents\My Pictures\Microsoft Clip Organizer\j0387196.jpg"/>
          <p:cNvPicPr/>
          <p:nvPr/>
        </p:nvPicPr>
        <p:blipFill>
          <a:blip r:embed="rId2"/>
          <a:stretch/>
        </p:blipFill>
        <p:spPr>
          <a:xfrm>
            <a:off x="3456000" y="1779480"/>
            <a:ext cx="6084720" cy="5475240"/>
          </a:xfrm>
          <a:prstGeom prst="rect">
            <a:avLst/>
          </a:prstGeom>
          <a:ln w="0">
            <a:noFill/>
          </a:ln>
        </p:spPr>
      </p:pic>
      <p:sp>
        <p:nvSpPr>
          <p:cNvPr id="493" name="Footer Placeholder 9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1981080" y="1981080"/>
          <a:ext cx="5334120" cy="274320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2f2f2"/>
                          </a:solidFill>
                          <a:latin typeface="Bookman Old Style"/>
                        </a:rPr>
                        <a:t>Международное частное прав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5" name="Text Box 71"/>
          <p:cNvSpPr/>
          <p:nvPr/>
        </p:nvSpPr>
        <p:spPr>
          <a:xfrm>
            <a:off x="3733920" y="60958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еевка -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1B6D-DC82-4F36-B82F-38391B8BBD2D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5f55"/>
                </a:solidFill>
                <a:latin typeface="Calibri"/>
              </a:rPr>
              <a:t>Внешнеэкономические сделки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27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28" name="TextBox 7"/>
          <p:cNvSpPr/>
          <p:nvPr/>
        </p:nvSpPr>
        <p:spPr>
          <a:xfrm>
            <a:off x="533520" y="76212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еэкономические сделки, их виды. Принципы международной торговли. Особые режимы осуществления отдельных видов внешнеэкономической деятельности. Принцип «автономии вол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703B-E15E-4E29-88C1-F7CEABF51B49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pic>
        <p:nvPicPr>
          <p:cNvPr id="531" name="Рисунок 5" descr="image-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6C89-7D03-4176-B080-B128A0E015DF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5f55"/>
                </a:solidFill>
                <a:latin typeface="Calibri"/>
              </a:rPr>
              <a:t>Авторское и патентное право в международном частном праве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34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35" name="TextBox 7"/>
          <p:cNvSpPr/>
          <p:nvPr/>
        </p:nvSpPr>
        <p:spPr>
          <a:xfrm>
            <a:off x="533520" y="762120"/>
            <a:ext cx="830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кты интеллектуальной собственности в международном частном праве. Особенности прав на интеллектуальную собственность в международном частном праве. Авторские права иностранцев в Украине. Обеспечение иска о нарушении авторских и смежных прав иностранцев в Украине. Международная охрана авторских прав. Международная охрана смежных прав. Охрана прав на товарные знаки. Права иностранцев на промышленную собственность в Украине. Международная охрана промышленной собств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Shap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8E91-18AA-4F88-899E-7FF88E1C925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Рисунок 3" descr="slid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FE41-FC82-4BEF-B5EA-AA24B6698B0E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5f55"/>
                </a:solidFill>
                <a:latin typeface="Calibri"/>
              </a:rPr>
              <a:t>Семейное и наследственное право в международном частном праве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40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41" name="TextBox 7"/>
          <p:cNvSpPr/>
          <p:nvPr/>
        </p:nvSpPr>
        <p:spPr>
          <a:xfrm>
            <a:off x="533520" y="762120"/>
            <a:ext cx="830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лизионно-правовые вопросы брака и семьи. Вопросы семейного права в договорах о правовой помощи. Вопросы применения семейного законодательства к семейным отношениям с участием иностранцев и апатридов по Семейному кодексу Украины. Гаагские конвенции по вопросам семейного права. Конвенции Совета Европы и его органов по семейному прав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лизионно-правовые вопросы наследования. Вопросы наследования в договорах о правовой помощ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hap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8C35-4974-4C33-AD31-BDB795E56D7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Рисунок 3" descr="3489-img_1.jpg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83F1-094A-4ABC-B83A-7464F6963348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5f55"/>
                </a:solidFill>
                <a:latin typeface="Calibri"/>
              </a:rPr>
              <a:t>Трудовые отношения в международном частном праве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46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47" name="TextBox 7"/>
          <p:cNvSpPr/>
          <p:nvPr/>
        </p:nvSpPr>
        <p:spPr>
          <a:xfrm>
            <a:off x="533520" y="76212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характеристика трудовых правоотношений в международном частном праве. Коллизионно-правовые вопросы трудовых отношений. Особенности трудовых отношений в международном частном пра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648D-F428-431D-8F64-A2741CB133A0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5f55"/>
                </a:solidFill>
                <a:latin typeface="Calibri"/>
              </a:rPr>
              <a:t>Обязательства из причинения вреда в международном частном праве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50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51" name="TextBox 7"/>
          <p:cNvSpPr/>
          <p:nvPr/>
        </p:nvSpPr>
        <p:spPr>
          <a:xfrm>
            <a:off x="533520" y="76212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я возникновения обязательств из причинения вреда. Коллизионно-правовые вопросы обязательств из причинения вреда. Вопросы деликтных отношений в договорах о правовой помощи и других ак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EA4F-B028-4442-8160-ED74A9547024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5f55"/>
                </a:solidFill>
                <a:latin typeface="Calibri"/>
              </a:rPr>
              <a:t>Рассмотрение споров в международном частном праве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54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55" name="TextBox 7"/>
          <p:cNvSpPr/>
          <p:nvPr/>
        </p:nvSpPr>
        <p:spPr>
          <a:xfrm>
            <a:off x="457200" y="762120"/>
            <a:ext cx="8305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ятие международного гражданского процесса. Подсудность и вопросы ее определения. Международная подсудность и пророгационные договоры. Специальные правила определения подсудности. Судебный иммунитет иностранных государств. Содержание иностранного пр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ение иностранных судебных поручений. Признание и исполнение решений иностранных судов и арбитражей. Порядок принудительного исполнения иностранных судебных решений в Укра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8" descr="C:\Documents and Settings\Mist.DEB-6015B618F20\My Documents\My Pictures\Microsoft Clip Organizer\j0387196.jpg"/>
          <p:cNvPicPr/>
          <p:nvPr/>
        </p:nvPicPr>
        <p:blipFill>
          <a:blip r:embed="rId1">
            <a:lum contrast="6000"/>
          </a:blip>
          <a:srcRect l="0" t="-7905" r="8801" b="-3314"/>
          <a:stretch/>
        </p:blipFill>
        <p:spPr>
          <a:xfrm>
            <a:off x="3459240" y="990720"/>
            <a:ext cx="5684760" cy="6024600"/>
          </a:xfrm>
          <a:prstGeom prst="rect">
            <a:avLst/>
          </a:prstGeom>
          <a:ln w="0">
            <a:noFill/>
          </a:ln>
        </p:spPr>
      </p:pic>
      <p:pic>
        <p:nvPicPr>
          <p:cNvPr id="557" name="Рисунок 4" descr="004848027_1-d6bbcbdb0174526849eb9b9b2f0496b3.png"/>
          <p:cNvPicPr/>
          <p:nvPr/>
        </p:nvPicPr>
        <p:blipFill>
          <a:blip r:embed="rId2"/>
          <a:stretch/>
        </p:blipFill>
        <p:spPr>
          <a:xfrm>
            <a:off x="1444680" y="1079640"/>
            <a:ext cx="6254640" cy="4698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hap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90B8-9AE6-48E5-A23E-913B3A21C3A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  <a:ea typeface="宋体"/>
              </a:rPr>
              <a:t>Содержание учебного материала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宋体"/>
              </a:rPr>
              <a:t>Тема 1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нятие международного частного права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宋体"/>
              </a:rPr>
              <a:t>Тема 2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точники и субъекты международного частного права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宋体"/>
              </a:rPr>
              <a:t>Тема 3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ажданско-правовой статус иностранцев, лиц без гражданства и юридических лиц в международном частном праве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宋体"/>
              </a:rPr>
              <a:t>Тема 4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о собственности в международном частном праве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宋体"/>
              </a:rPr>
              <a:t>Тема 5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нешнеэкономические сделки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宋体"/>
              </a:rPr>
              <a:t>Тема 6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рское и патентное право в международном частном праве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宋体"/>
              </a:rPr>
              <a:t>Тема 7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мейное и наследственное право в международном частном праве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宋体"/>
              </a:rPr>
              <a:t>Тема 8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Трудовые отношения в международном частном праве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宋体"/>
              </a:rPr>
              <a:t>Тема 9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язательства из причинения вреда в международном частном праве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宋体"/>
              </a:rPr>
              <a:t>Тема 10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смотрение споров в международном частном праве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 advTm="10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859E-063E-4BD4-A862-01A580F7E70D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5f55"/>
                </a:solidFill>
                <a:latin typeface="Calibri"/>
              </a:rPr>
              <a:t>Понятие международного частного права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01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02" name="TextBox 7"/>
          <p:cNvSpPr/>
          <p:nvPr/>
        </p:nvSpPr>
        <p:spPr>
          <a:xfrm>
            <a:off x="533520" y="838080"/>
            <a:ext cx="8305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ятие международного частного права (МЧП), его соотношение с международным публичным правом. История доктрин МЧП. Международное частное право как комплексная отрасль правоведения. Методы правового регулирования в международном частном праве. Система МЧП. Общая и Особенная части МЧ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ременные тенденции развития международного частного пра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hap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C533-9BC3-4BA9-8E50-10779EA41A2B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5" name="Рисунок 5" descr="slide-2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2B81-DEA2-47DC-9EE1-209053950BEB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5f55"/>
                </a:solidFill>
                <a:latin typeface="Calibri"/>
              </a:rPr>
              <a:t>Источники и субъекты международного частного права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08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09" name="TextBox 7"/>
          <p:cNvSpPr/>
          <p:nvPr/>
        </p:nvSpPr>
        <p:spPr>
          <a:xfrm>
            <a:off x="533520" y="1295280"/>
            <a:ext cx="8305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схождение норм международного частного права. Международные договоры и международные организации (УНИДРУА, ЮНКТАД, ВОИС). Кодекс Бустаманте. Судебная и арбитражная практика (прецедент). Международные обыча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циональное законодательство как источник МЧП. Внутреннее украинское законодательство и нормы международного частного права. Структура коллизионной нормы. Виды коллизионных норм. Понятие и виды источников МЧП. Унификация МЧП (коллизионная, материальная унификация, стандартизация и рецепци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бъекты международного частного пра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542F-85BC-43BD-88C0-3EE0A0DE6F37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12" name="TextBox 7"/>
          <p:cNvSpPr/>
          <p:nvPr/>
        </p:nvSpPr>
        <p:spPr>
          <a:xfrm>
            <a:off x="609480" y="4572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Рисунок 4" descr="slide-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hap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B906-CD7F-42CF-8BDF-F1856DF72B2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6" name="Рисунок 3" descr="image-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4A3A-E226-48F6-917F-8D7733C5634D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5f55"/>
                </a:solidFill>
                <a:latin typeface="Calibri"/>
              </a:rPr>
              <a:t>Гражданско-правовой статус иностранцев, лиц без гражданства и юридических лиц в международном частном праве</a:t>
            </a:r>
            <a:br>
              <a:rPr sz="1800"/>
            </a:b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19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20" name="TextBox 7"/>
          <p:cNvSpPr/>
          <p:nvPr/>
        </p:nvSpPr>
        <p:spPr>
          <a:xfrm>
            <a:off x="533520" y="762120"/>
            <a:ext cx="830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жданская правоспособность иностранных граждан и лиц без гражданства. Гражданская правоспособность иностранцев, постоянно проживающих в Украине или временно прибывших в Украину. Юридические лица в международном частном праве. Иностранные юридические лица в Украине. Личный статус иностранного юридического л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438F-C992-454A-B000-7D20629A873C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5f55"/>
                </a:solidFill>
                <a:latin typeface="Calibri"/>
              </a:rPr>
              <a:t>Право собственности в международном частном праве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23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24" name="TextBox 7"/>
          <p:cNvSpPr/>
          <p:nvPr/>
        </p:nvSpPr>
        <p:spPr>
          <a:xfrm>
            <a:off x="533520" y="7621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иностранной собственности на территории государства. Коллизионно-правовые вопросы отношений собственности. Иностранные инвестиции. Создание предприятий с иностранными инвестициями. Международная защита иностранных инвести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1:40:00Z</dcterms:created>
  <dc:creator>user</dc:creator>
  <dc:description/>
  <dc:language>en-US</dc:language>
  <cp:lastModifiedBy/>
  <dcterms:modified xsi:type="dcterms:W3CDTF">2023-11-20T08:01:41Z</dcterms:modified>
  <cp:revision>1</cp:revision>
  <dc:subject/>
  <dc:title>LLP Powerpoint Templ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89181033</vt:lpwstr>
  </property>
</Properties>
</file>